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3BDDB-9FBE-45F7-96AF-AF5F5FBE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CE91-5C87-4C43-BBD4-3CFB3F08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5BD6-083F-4DAA-8AD4-6D1B54DA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3D45-4B3B-4185-B5EB-8CEFEA7D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035D-C368-492D-96CB-E2C263AA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97AE-5E8A-482A-ACA8-73765398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DE88-67E2-40E0-A5EE-F39B87E6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B1E4-C2E4-4466-B817-7638F8E1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A85D-CE12-45EB-923D-1B041001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5109-E46F-466A-96EA-24C7B219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CE01-B63E-410C-B417-798C8C94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8AC1-D4FB-4F7B-B48D-A8867219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468E-07E8-4EB3-9D15-B69AA493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F678-AE4F-4CE8-8E45-9B4E3FD9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4726-D570-49A4-9BEE-45F7E67A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3F7F-94E2-4B12-8487-6E9A3DB1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AD50-1D54-4D79-8271-313BC922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6B2A-D5BC-42BC-BE50-3A610472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84E8-DAEF-4C61-B551-F8803573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18D8-8BDC-4BB2-B058-39864CCB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E2C0-68C6-4546-9307-6CBC0B5C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6D55-7E9A-450F-97FF-89F7E8C0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B221-48C4-45D4-B5A6-DD7B1BD2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9857-5650-48F6-AAE1-85BFDDBB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D2C6-491B-453F-ABE1-F3C18AC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463B-91D4-46EC-AA12-CD17581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0252-D365-4B58-A13B-2235B943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A22F-1140-4F79-989B-2284ABBC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8A641-B913-4E66-8CCC-05BDB5DE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6151-E634-481B-992A-919B43B5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B2A34-DBD3-411E-AD30-8BEAE2D2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2CCE1-45CF-403C-B853-38017080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B23EC-F32C-42AA-83A0-EAE32504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5828-D665-48AC-A7A0-2E548168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1C907-4FFF-42C2-AF4C-5FCAF1E7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3A4F1-4905-47E0-BA83-02BF2C53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17A31-6F34-4A06-A9E6-4A304294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482FD-A8F4-4A58-A2C9-D7BC5C20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D18CD-B76D-466E-A37E-13E78E0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A392A6-3D19-4709-8B7A-D091CEC7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79DE4-D520-48DD-968E-F8363B52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E95DA-38E2-4BDA-9CA1-C08D7BD3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211FB-8165-45FC-8AE7-84BD49B7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8CAF-56E6-4BF2-9203-054EA0A0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249E-DD81-480D-94AE-9B781AFF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935FD-BA0B-44B8-BB7B-CF2EEDB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CBB0-53B0-4327-AB42-F64304E2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7154-14DD-43EE-8623-69A7ACCD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900E-5DB9-4F52-9693-9A2FA97927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489B-EF3E-4BB3-8D77-80DA10FF85D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45A6-311A-413D-8103-5A74E31408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F530-BFE8-493A-BE76-951E78B354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cc"/>
                </a:solidFill>
                <a:latin typeface="Arial Black"/>
              </a:rPr>
              <a:t>La Ropa De Aleah Wils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Fashion Show es lleno de zapatos y ropa de todos temora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65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El verarn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52320" y="3733920"/>
            <a:ext cx="5334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jandra lleva una vestido rojo, una pulsera, y la muchacha es muy bonita y mor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24160" cy="2600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2762280" cy="3524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715000" y="2133720"/>
            <a:ext cx="1371600" cy="1218960"/>
          </a:xfrm>
          <a:custGeom>
            <a:avLst/>
            <a:gdLst>
              <a:gd name="textAreaLeft" fmla="*/ 322200 w 1371600"/>
              <a:gd name="textAreaRight" fmla="*/ 1048320 w 1371600"/>
              <a:gd name="textAreaTop" fmla="*/ 143280 h 1218960"/>
              <a:gd name="textAreaBottom" fmla="*/ 764640 h 121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33520"/>
            <a:ext cx="1295280" cy="1218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0000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l invier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1898640" cy="2924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581280" y="15238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205740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2057400"/>
            <a:ext cx="632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17524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garita lleva una gorra blanca, bufanda gris, y un sue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3:55:11Z</dcterms:created>
  <dc:creator>wilsonaleah</dc:creator>
  <dc:description/>
  <dc:language>en-US</dc:language>
  <cp:lastModifiedBy>wilsonaleah</cp:lastModifiedBy>
  <dcterms:modified xsi:type="dcterms:W3CDTF">2011-12-14T17:01:41Z</dcterms:modified>
  <cp:revision>6</cp:revision>
  <dc:subject/>
  <dc:title>La Ropa De Aleah Wilson</dc:title>
</cp:coreProperties>
</file>